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40AA-F65B-4376-81BF-E56945FAB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1CB9-2B45-4819-A1FA-76A9D20FE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80D9-7896-40B1-AEE6-91EBF430C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7345-89B0-418F-8A9C-DD4A7A6FE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C978-7BE8-44B4-8EC6-54B970174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909D-CF8D-4F6F-99C1-F82E9802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8A4-195E-4311-A54B-B1E005A9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204-7FE5-4F53-8476-0E526A69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810-0F59-4338-8A1B-950F7316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826-BE89-4400-8F11-86F6082E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8117-84F9-4851-8B59-B5C002D2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042A-D3A2-4B55-BFA8-7CC6E18D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582C-9BD4-46C1-B67A-6240F56E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8518-85F7-43DB-94F7-5027940C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4E91-684A-45CF-9A97-D2F55D59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6E2D-0F60-4F87-BEC9-8E46E406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35A8-80B6-473F-BD6D-E3FB3953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3B2-2A31-4C06-AC4D-DB09907F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84DA-3CA4-4101-9A28-EFB573D9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2118-AE19-47A1-8227-4785E6FF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05C9-8B52-4F28-962E-3D24906C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B539-9D77-4891-B8AE-24AE52AE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155A-6671-4E2E-8F2B-7F296368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2F0-1CD2-4239-A8E2-4946DEC4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6C8-11FE-462B-886C-F830A9CB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31A-61BA-4BDD-BBC3-FA3E2E85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B14-C4CD-4710-B60C-192A6929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D3E-4DFE-4BEE-82AE-790A35BE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04D-2C7D-4170-95E8-818D0C78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60F-A1A8-46E7-9AE2-19D9A340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3027-455A-4B73-9BC7-2D0D7B8C9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7E9C-0639-4885-A9B5-C7DBDA2BCC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enlancour@charter.ne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inc.org/" TargetMode="External"/><Relationship Id="rId2" Type="http://schemas.openxmlformats.org/officeDocument/2006/relationships/hyperlink" Target="http://www.soinc.org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3200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2011 MICROBE MISSION(B/C)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11-4-201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62160" y="4647960"/>
            <a:ext cx="4800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AREN LANC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NATIONAL SUPERVI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National Rules Committee Chairman – Life Scien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karenlancour@charter.net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SO LOGO"/>
          <p:cNvPicPr/>
          <p:nvPr/>
        </p:nvPicPr>
        <p:blipFill>
          <a:blip r:embed="rId2"/>
          <a:stretch/>
        </p:blipFill>
        <p:spPr>
          <a:xfrm>
            <a:off x="2514600" y="914400"/>
            <a:ext cx="38862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llular vs. Acellular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82880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Acellula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use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do not have cellular components, nor do they grow or metabolize organic materials.  They generally consist of a piece of nucleic acid encased in protein which must use the cellular components of a living cell to reprodu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rion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oteinaceous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nfectious particles) are infectious agents composed primarily of protein which induce the existing polypeptides in host cells to take on its for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ellula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cteria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chaea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karyotic cell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while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algae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fungi,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protozoa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have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eukaryotic cel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karyotic vs. Eukaryotic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4459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karyoti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single cell with nuclear material but no nuclear membrane or membrane bound organe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ukaryoti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most cells – with organized nucleus and membrane bound organe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celltypes1"/>
          <p:cNvPicPr/>
          <p:nvPr/>
        </p:nvPicPr>
        <p:blipFill>
          <a:blip r:embed="rId1"/>
          <a:stretch/>
        </p:blipFill>
        <p:spPr>
          <a:xfrm>
            <a:off x="5621400" y="217008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Animal Cell</a:t>
            </a:r>
            <a:r>
              <a:rPr b="0" lang="en-US" sz="40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5" descr="cell1"/>
          <p:cNvPicPr/>
          <p:nvPr/>
        </p:nvPicPr>
        <p:blipFill>
          <a:blip r:embed="rId1"/>
          <a:stretch/>
        </p:blipFill>
        <p:spPr>
          <a:xfrm>
            <a:off x="1066680" y="1600200"/>
            <a:ext cx="7239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lant Cell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pecial Featur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ell wall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protection and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hloropla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- for photosyn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arge central vacuole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 storage and increase surface are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lantCelldiagr"/>
          <p:cNvPicPr/>
          <p:nvPr/>
        </p:nvPicPr>
        <p:blipFill>
          <a:blip r:embed="rId2"/>
          <a:stretch/>
        </p:blipFill>
        <p:spPr>
          <a:xfrm>
            <a:off x="4724280" y="2057400"/>
            <a:ext cx="39718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rganelles of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Microbial Origi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2209680"/>
            <a:ext cx="8955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tochondria and Chloroplast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have DNA similar to that of a Prokaryotic cell and can reproduce independent of the rest of the Eukaryotic ce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t is believed that both chloroplasts and mitochondria were one independent Prokaryotes who took up residence in the Eukaryotic cell and have developed a special symbiotic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MICROBIAL GROWTH CURV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2" descr="C:\Users\Karen Lancour\Pictures\My Pictures\SO Event Diagrams\Microbe Mission\General\growthcurve.jpg"/>
          <p:cNvPicPr/>
          <p:nvPr/>
        </p:nvPicPr>
        <p:blipFill>
          <a:blip r:embed="rId1"/>
          <a:stretch/>
        </p:blipFill>
        <p:spPr>
          <a:xfrm>
            <a:off x="330120" y="1963800"/>
            <a:ext cx="85168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Only one cell – a prokaryotic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Live in all environments – even above boiling point and below freezing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Basically three shapes – spherical , rod , and spiral or helical (spirullum)  Exist as individuals or cluster together to form pairs, chains, squares, or other group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form spor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are photoautotrophic -  make their own food as plants and give off oxygen – </a:t>
            </a:r>
            <a:r>
              <a:rPr b="1" lang="en-US" sz="1800" spc="-1" strike="noStrike">
                <a:solidFill>
                  <a:srgbClr val="e62d1a"/>
                </a:solidFill>
                <a:latin typeface="Tahoma"/>
              </a:rPr>
              <a:t>Cyanobacteria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re also aerobic </a:t>
            </a:r>
            <a:r>
              <a:rPr b="1" lang="en-US" sz="1800" spc="-1" strike="noStrike">
                <a:solidFill>
                  <a:srgbClr val="e62d1a"/>
                </a:solidFill>
                <a:latin typeface="Tahoma"/>
              </a:rPr>
              <a:t>Purple and green bacteria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re anaerobi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are chemoautotrophic -  synthesize their own food using energy from chemical reactions – important for recycling in nitrogen and sulfur cyc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have flagella -  rotates like a tiny outboard motor, other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ecrete a slime layer and move over surfaces like slu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7" descr="Composite Bacterial Cell"/>
          <p:cNvPicPr/>
          <p:nvPr/>
        </p:nvPicPr>
        <p:blipFill>
          <a:blip r:embed="rId1"/>
          <a:stretch/>
        </p:blipFill>
        <p:spPr>
          <a:xfrm>
            <a:off x="4952880" y="27000"/>
            <a:ext cx="3810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L SHAP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3" descr="360px-Bacterial_morphology_diagram_svg.png"/>
          <p:cNvPicPr/>
          <p:nvPr/>
        </p:nvPicPr>
        <p:blipFill>
          <a:blip r:embed="rId1"/>
          <a:stretch/>
        </p:blipFill>
        <p:spPr>
          <a:xfrm>
            <a:off x="1981080" y="1843200"/>
            <a:ext cx="5227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4259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RAM + VS. GRAM – BACTERIA</a:t>
            </a:r>
            <a:r>
              <a:rPr b="1" lang="en-US" sz="28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520" y="2666520"/>
            <a:ext cx="8574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ram positive bacte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tain purple under Gram st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have a thick bilayer wall of the polymer peptidoglyca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ram negative bacte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tain 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have a thin layer of this polymer and an additional lipopolysaccharide outer layer, LP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ften endotoxic  - capable of initiating inflammation and cell-mediated immune respon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e.g.,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Salmonell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Shigell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, and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Escherichi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2" descr="Gram Positive and Gram Negative CW"/>
          <p:cNvPicPr/>
          <p:nvPr/>
        </p:nvPicPr>
        <p:blipFill>
          <a:blip r:embed="rId1"/>
          <a:stretch/>
        </p:blipFill>
        <p:spPr>
          <a:xfrm>
            <a:off x="5715000" y="228600"/>
            <a:ext cx="29606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43354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rcha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Content Placeholder 3" descr="Archaea.bmp"/>
          <p:cNvPicPr/>
          <p:nvPr/>
        </p:nvPicPr>
        <p:blipFill>
          <a:blip r:embed="rId1"/>
          <a:stretch/>
        </p:blipFill>
        <p:spPr>
          <a:xfrm>
            <a:off x="6858000" y="3049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28240" y="16761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imilar to bacteria – prokaryot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ell walls lack </a:t>
            </a:r>
            <a:r>
              <a:rPr b="1" lang="en-US" sz="2800" spc="-1" strike="noStrike">
                <a:solidFill>
                  <a:srgbClr val="e62d1a"/>
                </a:solidFill>
                <a:latin typeface="Tahoma"/>
              </a:rPr>
              <a:t>peptidoglycan + other dif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Origin very old - during formation of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Extremely tolerant to heat, acid, and toxic 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ound in extreme habitats in anaerobic environments to produce methane, high salt concentrations or hot acid environ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volved in carbon &amp; nitrogen cycles, assist in digestion, &amp; can be used in sewage treat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DISCLAIM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This presentation was prepared using draft rules.  There may be some changes in the final copy of the rules.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The rules which will be in your Coaches Manual and Student Manuals will be the official rules.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4640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lgal Protist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(ALGAE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072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re Eukaryoti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ound in fresh and salt water environ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an live on rocks, trees, and in soils with enough mois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an carry on photosynthesis – produce large amount of oxyg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Diatoms, </a:t>
            </a:r>
            <a:r>
              <a:rPr b="1" i="1" lang="en-US" sz="3200" spc="-1" strike="noStrike">
                <a:solidFill>
                  <a:srgbClr val="e62d1a"/>
                </a:solidFill>
                <a:latin typeface="Tahoma"/>
              </a:rPr>
              <a:t>Clamydomonas, Volvox, Spirogy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2" descr="Grouped_Diatoms.jpg"/>
          <p:cNvPicPr/>
          <p:nvPr/>
        </p:nvPicPr>
        <p:blipFill>
          <a:blip r:embed="rId1"/>
          <a:stretch/>
        </p:blipFill>
        <p:spPr>
          <a:xfrm>
            <a:off x="6553080" y="457200"/>
            <a:ext cx="19638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nimal-like Protist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     (PROTOZOA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2017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rotozoa means “little animal” – act like tiny animals – Eukaryo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Hunt other microbes for f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Mainly feed on bacteria, also other protozoa and some alg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igest food in digestive orga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iliates, Amoebaes, Flagellates  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aramecium, Amoeba,  Eugle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Most are not harmful – a few are harmfu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ertain protozoa can cause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dysentery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2" descr="Amoeba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24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33447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520" y="1981080"/>
            <a:ext cx="8574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Cellular level, more like animals than plants – Eukaryoti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Can’t synthesize their own foo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ingle celled a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yeast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or multicellular clusters a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olds &amp; mushroo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Multicellular ones  form filament like strands –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yph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Grow best in slightly acidic environment – can grow in low moistu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Live in soil, on plants &amp; animals, in fresh &amp; salt wa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ne teaspoon of topsoil has about 120,000 fung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aker’s yeast 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for bread and brewing, some are used for antibiotics, others serve as decompos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ome cause disease in humans, animals and plants – ruin ¼ to ½ of fruits &amp; vegetables per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2" descr="Yeast - SEM.gif"/>
          <p:cNvPicPr/>
          <p:nvPr/>
        </p:nvPicPr>
        <p:blipFill>
          <a:blip r:embed="rId1"/>
          <a:stretch/>
        </p:blipFill>
        <p:spPr>
          <a:xfrm>
            <a:off x="6705720" y="0"/>
            <a:ext cx="19476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IRUS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re acellu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ists of a piece of nucleic acid (DNA or RNA) encased in protein and in some cases a membrane-like envelop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y come in man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ound anywhere there are cells to infe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Exist to reproduce – must take over a suitable host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Uses the cell machinery of the host cell to reprodu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2" descr="virus.gif"/>
          <p:cNvPicPr/>
          <p:nvPr/>
        </p:nvPicPr>
        <p:blipFill>
          <a:blip r:embed="rId1"/>
          <a:stretch/>
        </p:blipFill>
        <p:spPr>
          <a:xfrm>
            <a:off x="6781680" y="533520"/>
            <a:ext cx="165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ON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oteinaceous infectious particles, associated with a number of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haracterized by loss of motor control, dementia, paralysis, wasting and eventually de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Mad Cow Diseas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in catt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Creutzfeld-Jacob disease (CJD)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in hum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ENEFICIAL VS HARMFUL MICROB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828440"/>
            <a:ext cx="872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Over 99% contribute to the quality of human lif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Live in every environment on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in ecologic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in biogeochemical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Human digestion depends upon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to the food industry and  the productions of many product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Help with wastewater  and oil spill cleanu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mall minority cause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213840"/>
            <a:ext cx="71150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ood Production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2133720"/>
            <a:ext cx="865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ilk into yogurt, buttermilk, sour cream, che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id in production of chocolate, bread products, wine, beer, t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ckling process to make pickles from cucumbers and sauerkraut from cabb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ermentation Products and their Us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574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Carbon dioxide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bread mak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using baker’s yeast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Alcohol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wine making and brewing  using yeas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Lactic Acid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lactic acid bacteria ferment milk into products as yogurt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ood Spoilage and Food Decomposition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icrobes play a key role – bacteria and fungi – in food spoilage and decompo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any types can live at low temperatures as mold on food in the refrig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ood preservation techniques as salt and  high acid affect micro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DUSTRIAL US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Microbes (fungi and bacteria) are used to make antibio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lgae are being used to make petroleu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Yeast and bacteria are used in producing medicin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BE SURE TO CHECK THE 2011 EVENT RULES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FOR EVENT PARAMETERS AND TOPICS FOR EACH COMPETITION LEVEL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ial Ec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904760"/>
            <a:ext cx="84978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Major producers in aquatic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Decomposers – bacteria and fungi – in many eco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Key role in Biogeochemical cycles to recycle carbon, nitrogen, carbon,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Natural pest killers in gardens and on cr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eakdown oil from oil sp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erve as natural water trea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an cause some ecological problems as red tide and algal bloo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astewater Microbiolog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Microbes play a key role in water and waste treatment facilit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re involved in natural waterway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Involved in maintaining septic tank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liform bacteria as E. coli can contaminate water making it unsaf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160" y="2286000"/>
            <a:ext cx="8421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There are many agents of infectious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Microbes acting as agents are prions, viruses, bacteria, fungi, protozoa, parasitic w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Examples of common diseases for each to follow </a:t>
            </a:r>
            <a:r>
              <a:rPr b="0" lang="en-US" sz="3200" spc="-1" strike="noStrike">
                <a:solidFill>
                  <a:srgbClr val="e62d1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ist of Microb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680" y="2017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Be sure to check th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SO National websi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for the final 2011 L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f Disease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IR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88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ononucle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ol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Rab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mall p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al encephal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al pneumo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West Nile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Yellow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520" y="2017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A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hicken Pox &amp; Shin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ommon Cold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engue Fe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Ebola Hemorrhagic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Her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eas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9047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Anthr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acterial Meningiti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acterial Pneumon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otu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hol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ental Caries (tooth dec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Gonorrh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Legionnaire's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Lyme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1676160"/>
            <a:ext cx="404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eptic Ulcer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ertussis (whooping coug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Rocky Mountain Spotted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trep thr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yphil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eta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oxic Shock Syndr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yph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UNG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Athlete’s foo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Histoplasmo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Ringworm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hrush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TOZOAN/ALGAL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0720"/>
            <a:ext cx="826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Malaria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Paralytic Shellfish Poisoning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Estuary Associated Syndrom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ON DISEAS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22093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Mad Cow Disea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ational Tourna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bd6c"/>
                </a:solidFill>
                <a:latin typeface="Tahoma"/>
              </a:rPr>
              <a:t>Added Diseases Top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arasitic W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lant Dise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mportant Genera Related to Diseas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AINING MATERIA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raining Power Poin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content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raining Handou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- content 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ample Tournamen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sample problems with key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Event Supervisor Guide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event prep tips, setu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needs and scoring ti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nternet Resources &amp; Training Material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on the Science Olympiad website at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soinc.org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under Even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be Mission &amp; Biology-Earth Science CD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as well as the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ivision B and Division C Test Packets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re available from SO store at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oinc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ARASITIC WORM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7720" y="2209320"/>
            <a:ext cx="8116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Hook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Pin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Schistosomia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ape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richinosi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LANT DISEASE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by Microb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Dutch Elm Dise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Ergotis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Potato Bligh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Crown Gall Dise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MPORTANT GENER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2361960"/>
            <a:ext cx="83455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62d1a"/>
                </a:solidFill>
                <a:latin typeface="Tahoma"/>
              </a:rPr>
              <a:t>Wolbachia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62d1a"/>
                </a:solidFill>
                <a:latin typeface="Tahoma"/>
              </a:rPr>
              <a:t>Batrachochytrium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ICROBE MISSION(B/C)</a:t>
            </a:r>
            <a:r>
              <a:rPr b="1" lang="en-US" sz="40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vent Description 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lab-oriented competition to answer questions, solve problems and analyze data pertaining to various microb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vent –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lab practical in station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Event Parameters –</a:t>
            </a:r>
            <a:r>
              <a:rPr b="0" lang="en-US" sz="3200" spc="-1" strike="noStrike">
                <a:solidFill>
                  <a:srgbClr val="e62d1a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be sure to check the rules for resources allowed, type of goggles needed.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e Mission and Other SO Even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520" y="2361960"/>
            <a:ext cx="857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isease Detectiv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2011 topic is Food Borne Illness (many are microbial caus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colog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Microbes play key role in ecology as with biogeochemical cy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ynamic Planet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microbes are involved in every part of our planet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1905120"/>
            <a:ext cx="895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 term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be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is short for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organism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which means small organism – observed with a microscop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Over 99% of microbe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tribute to the quality of human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mall minority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use disease – in humans by sheer numbers or producing powerful tox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ajor group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of microbes are bacteria, Archaea, algae, fungi, protozoa &amp; vir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n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erms of number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microbes represent most of the diversity of life on Earth and are found in every environ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011 Microscope Review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 special training handout covering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Relative Size of Microb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Types of Microscopes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– their uses, advantages and disadvant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Parts of a Light Microscope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nd their function </a:t>
            </a: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Principles of Microscop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LATIVE SIZE OF MICROB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Picture 5" descr="C:\Users\Karen Lancour\Pictures\My Pictures\SO Event Diagrams\Microbe Mission\Cell Types\310px-Relative_scale_svg.png"/>
          <p:cNvPicPr/>
          <p:nvPr/>
        </p:nvPicPr>
        <p:blipFill>
          <a:blip r:embed="rId1"/>
          <a:stretch/>
        </p:blipFill>
        <p:spPr>
          <a:xfrm>
            <a:off x="990720" y="2017800"/>
            <a:ext cx="65530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8:36:06Z</dcterms:created>
  <dc:creator>Karen Lancour</dc:creator>
  <dc:description/>
  <dc:language>en-US</dc:language>
  <cp:lastModifiedBy>Karen Lancour</cp:lastModifiedBy>
  <dcterms:modified xsi:type="dcterms:W3CDTF">2010-11-04T19:55:26Z</dcterms:modified>
  <cp:revision>134</cp:revision>
  <dc:subject/>
  <dc:title>BioProcess Lab</dc:title>
</cp:coreProperties>
</file>